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A87-81B3-4A72-86D8-5DD91620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1AB-2016-4DAF-BD49-56ECC3EC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8AF-E6FF-487E-B17C-22A90FEA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241-5A38-427B-AFEE-A4FB575A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246-818E-4576-B203-C4619FFE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D1A-CBC2-4253-8A03-60D17F56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961-A2A4-4F1E-9291-6DDBCAB4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E2F-EF8F-4A09-B35B-3A9FA7C0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279-4BB8-47F0-AFCE-52FC5330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AA7-FE6F-4460-AE20-7E25EF6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FF6-FAB6-4BEE-9AE8-74E7F29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6FD-C0B7-4A82-BAC8-3FEC8138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654B-3538-48E0-9D4C-E5B957E8C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allposters.com/-sp/Rainbow-in-Sky-Parthenon-Greece_i1460451_.htm?aid=749340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Golden A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loponnesian War (431-404 B.C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 strongest navy/ Sparta strongest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rta defeated Athens after a 27 yr.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 polis and spirit were severely dim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gan to question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cydides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story of the Peloponnesi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osophy is B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ers in search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to understand the outcome of the Peloponnesian War, these men sought to understand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rates (470-399 b.c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ic Method– Teaching by ask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questioned all accept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o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and sentenced to death by po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socrates"/>
          <p:cNvPicPr/>
          <p:nvPr/>
        </p:nvPicPr>
        <p:blipFill>
          <a:blip r:embed="rId1"/>
          <a:stretch/>
        </p:blipFill>
        <p:spPr>
          <a:xfrm>
            <a:off x="3809880" y="3276720"/>
            <a:ext cx="1905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o (427-347 b.c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of Soc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ed school, “The Academ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d with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eath of Soc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 not believe common man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t enough to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lato"/>
          <p:cNvPicPr/>
          <p:nvPr/>
        </p:nvPicPr>
        <p:blipFill>
          <a:blip r:embed="rId1"/>
          <a:stretch/>
        </p:blipFill>
        <p:spPr>
          <a:xfrm>
            <a:off x="6553080" y="1600200"/>
            <a:ext cx="2210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o’s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y is divided into thre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r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osopher-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d the brightest shoul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gory of the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of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stotle (384-322 b.c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of P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syllog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eople are m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rates was a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Socrates is M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the beginning of rational/ scientific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aristotle"/>
          <p:cNvPicPr/>
          <p:nvPr/>
        </p:nvPicPr>
        <p:blipFill>
          <a:blip r:embed="rId1"/>
          <a:stretch/>
        </p:blipFill>
        <p:spPr>
          <a:xfrm>
            <a:off x="6019920" y="1828800"/>
            <a:ext cx="14284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80-430 B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 reached new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ul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ge of Per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cles led Athens for 32 yea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61-429 B.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d 3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paid, so even poor could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Commercial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unding from Delian League to make Navy strong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rify 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t D.L. $ for architecture, (ex. The Parthen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ucceeded in all thr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067_3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1972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cropolis at Athens Giclee Print by Heinrich Leutemann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he Parthenon, Acropolis, Athens, Greece Photographic Print"/>
          <p:cNvPicPr/>
          <p:nvPr/>
        </p:nvPicPr>
        <p:blipFill>
          <a:blip r:embed="rId1"/>
          <a:stretch/>
        </p:blipFill>
        <p:spPr>
          <a:xfrm>
            <a:off x="457200" y="304920"/>
            <a:ext cx="4495680" cy="32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Rainbow in sky, Parthenon, Greec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38088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he Acropolis Giclee Print by Carl Neumann"/>
          <p:cNvPicPr/>
          <p:nvPr/>
        </p:nvPicPr>
        <p:blipFill>
          <a:blip r:embed="rId4"/>
          <a:stretch/>
        </p:blipFill>
        <p:spPr>
          <a:xfrm>
            <a:off x="1676520" y="3124080"/>
            <a:ext cx="6019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inth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Greek Doric Column, greek column, greek wood column, wood column."/>
          <p:cNvPicPr/>
          <p:nvPr/>
        </p:nvPicPr>
        <p:blipFill>
          <a:blip r:embed="rId1"/>
          <a:stretch/>
        </p:blipFill>
        <p:spPr>
          <a:xfrm>
            <a:off x="2133720" y="1143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Greek Doric Column, greek column, greek wood column, wood column."/>
          <p:cNvPicPr/>
          <p:nvPr/>
        </p:nvPicPr>
        <p:blipFill>
          <a:blip r:embed="rId2"/>
          <a:stretch/>
        </p:blipFill>
        <p:spPr>
          <a:xfrm>
            <a:off x="4343400" y="1143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Architectural Wood Columns"/>
          <p:cNvPicPr/>
          <p:nvPr/>
        </p:nvPicPr>
        <p:blipFill>
          <a:blip r:embed="rId3"/>
          <a:stretch/>
        </p:blipFill>
        <p:spPr>
          <a:xfrm>
            <a:off x="2971800" y="4924440"/>
            <a:ext cx="1714680" cy="19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Greek%20Ionic%20Columns%20small"/>
          <p:cNvPicPr/>
          <p:nvPr/>
        </p:nvPicPr>
        <p:blipFill>
          <a:blip r:embed="rId4"/>
          <a:stretch/>
        </p:blipFill>
        <p:spPr>
          <a:xfrm>
            <a:off x="1981080" y="3200400"/>
            <a:ext cx="2548080" cy="167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ioniccolumndesc.jpg (27634 bytes)"/>
          <p:cNvPicPr/>
          <p:nvPr/>
        </p:nvPicPr>
        <p:blipFill>
          <a:blip r:embed="rId5"/>
          <a:stretch/>
        </p:blipFill>
        <p:spPr>
          <a:xfrm>
            <a:off x="4876920" y="3124080"/>
            <a:ext cx="153324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11Elmwood_ColumnStyles02"/>
          <p:cNvPicPr/>
          <p:nvPr/>
        </p:nvPicPr>
        <p:blipFill>
          <a:blip r:embed="rId6"/>
          <a:stretch/>
        </p:blipFill>
        <p:spPr>
          <a:xfrm>
            <a:off x="4876920" y="49528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is a Greek invention that was to pay tribute to the G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– award an Olive Wreath (What els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gedy– a hero’s strength was cause for their down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dy– made fun of curr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dealt with public issues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k Play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hdionysus"/>
          <p:cNvPicPr/>
          <p:nvPr/>
        </p:nvPicPr>
        <p:blipFill>
          <a:blip r:embed="rId1"/>
          <a:stretch/>
        </p:blipFill>
        <p:spPr>
          <a:xfrm>
            <a:off x="1905120" y="762120"/>
            <a:ext cx="70484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6:17:32Z</dcterms:created>
  <dc:creator>Darien Public Schools</dc:creator>
  <dc:description/>
  <dc:language>en-US</dc:language>
  <cp:lastModifiedBy>Local User</cp:lastModifiedBy>
  <dcterms:modified xsi:type="dcterms:W3CDTF">2013-09-20T17:34:35Z</dcterms:modified>
  <cp:revision>15</cp:revision>
  <dc:subject/>
  <dc:title>Slide 1</dc:title>
</cp:coreProperties>
</file>